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136-A914-49EA-BF86-971E1731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E78F-249C-419F-BC2F-63BFFA65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76A3-9648-48B6-8DD4-6B40CF1D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AE20-463E-4091-98A3-17C5EF62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10F5-883B-4689-8E16-2D3E7066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66D5-179B-4167-B6A8-ACAD9BC5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AEE-45EA-4D61-8B8F-AB85CFFE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22E8-785C-4BB0-85C9-732B51CC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95BA-1C43-4CD4-BA90-383FD4B3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6FE4-00B6-45B7-BC70-928B58D8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180-F5AE-47F2-ABD6-42ACC444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A5C-D301-4A0B-AE0A-BCE7BDA7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019E-6B93-4E37-A6C1-2B58939AC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2152800"/>
            <a:ext cx="8610480" cy="25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06:50:41Z</dcterms:created>
  <dc:creator>User</dc:creator>
  <dc:description/>
  <dc:language>en-US</dc:language>
  <cp:lastModifiedBy>User</cp:lastModifiedBy>
  <dcterms:modified xsi:type="dcterms:W3CDTF">2010-01-01T06:51:17Z</dcterms:modified>
  <cp:revision>1</cp:revision>
  <dc:subject/>
  <dc:title>Slide 1</dc:title>
</cp:coreProperties>
</file>